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30AE-CD15-463B-8682-086ED7BA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A7D1-EF10-4286-9ADE-B9999734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B76A-D6FE-40DB-8D8F-075B3727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64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00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99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64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00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0AAE-E176-4059-A125-486E5ABE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493F-6F15-44BC-A4CD-B73E30BD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D861-F497-49D4-8147-DDB068A4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3A1C-DD9D-4F0F-9A65-334975A2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7F1C-5D7B-4AEC-9B9B-AA29612E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F476-F8DB-4BAF-AEAF-949B12E6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9876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F4D7-CEE7-4442-9235-77A0FD20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91A2-C03B-421B-AB90-63524974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18C-031C-4E12-8585-4EA55761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4261-3A72-4D47-9F0C-B7C2AF4D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DBC5-BC81-4EC7-8812-867FFB0F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62AD-3B22-4168-995E-CD935884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8201-EB24-43D7-A2C8-8B18226D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64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300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99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64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300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B808-14D9-4199-9BF0-35EC406E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6A0-09C5-4235-B30E-703B3DF2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1FDE-429D-4D4C-BBCF-9798573C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BF7-3A5A-4D37-B30D-C6B93ABB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876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CD31-826D-45E3-ADC1-0D502912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0D2-B8D4-4B64-B1A1-55EA2BD3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01CD-2F79-4EC4-81AC-903F52F4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4B5-9517-4DBF-A405-13E2F467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80AC7-B94D-40B5-B622-CCA88B823551}" type="datetime">
              <a:rPr b="0" lang="en-US" sz="1400" spc="-1" strike="noStrike">
                <a:solidFill>
                  <a:srgbClr val="000000"/>
                </a:solidFill>
                <a:latin typeface="Trebuchet MS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ED5AD-0666-46D4-A185-00E727671B92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46040" y="1902960"/>
            <a:ext cx="4647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749D1-D747-4020-A806-ED9694736ABE}" type="datetime">
              <a:rPr b="0" lang="en-US" sz="1400" spc="-1" strike="noStrike">
                <a:solidFill>
                  <a:srgbClr val="000000"/>
                </a:solidFill>
                <a:latin typeface="Trebuchet MS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BA149-E030-4142-8F9A-0D3BD60BFBFD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idshealth.org/parent/general/aches/b_bone.html#a_How_Do_I_Know_if_It_s_Broken_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 rot="21042000">
            <a:off x="1022040" y="2960640"/>
            <a:ext cx="7551720" cy="16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    </a:t>
            </a: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Broken Bone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 rot="21060000">
            <a:off x="2298600" y="4704840"/>
            <a:ext cx="627552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"/>
          <p:cNvSpPr/>
          <p:nvPr/>
        </p:nvSpPr>
        <p:spPr>
          <a:xfrm>
            <a:off x="4201560" y="492588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UCH!!!!!!!</a:t>
            </a:r>
            <a:endParaRPr b="0" lang="en-US" sz="2800" spc="-1" strike="noStrike">
              <a:solidFill>
                <a:srgbClr val="ffc118"/>
              </a:solidFill>
              <a:latin typeface="Arial Rounded MT Bold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141720" y="511200"/>
            <a:ext cx="2841480" cy="2841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What is a fracture?</a:t>
            </a:r>
            <a:br>
              <a:rPr sz="4400"/>
            </a:b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When you fracture a bone you break a bone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Fractures are very painful 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242040" y="3036960"/>
            <a:ext cx="171612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What to do when somebody gets hurt…</a:t>
            </a:r>
            <a:br>
              <a:rPr sz="4400"/>
            </a:b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4280" y="2158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ell them to keep stil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Put a  ice pack on the injured bone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Call for medical help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If medical help says it is broken, go to doctors immediately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783560" y="5270400"/>
            <a:ext cx="15876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What NOT to do if somebody is hurt</a:t>
            </a:r>
            <a:br>
              <a:rPr sz="4400"/>
            </a:b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Do not straighten it or move the bone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If you do this may cause the bone to come through the skin!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000680" y="4619520"/>
            <a:ext cx="2232000" cy="19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8760" y="32508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How do you know if you have broken a bone?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5996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If you heard a snapping or grinding noise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08520" indent="-30852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May result in swelling , bruising, or tenderness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08520" indent="-30852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If  you cannot put weight on the bone or push on it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08520" indent="-30852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Looks deformed or poking through the skin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08520" indent="-30852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If the doctor says it is :)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08520" indent="-30852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08520" indent="-30852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08520" indent="-30852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219720" y="5559480"/>
            <a:ext cx="1154160" cy="1298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46604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What to do if after you have a broken bone?</a:t>
            </a:r>
            <a:br>
              <a:rPr sz="4400"/>
            </a:b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6480" y="1925280"/>
            <a:ext cx="714708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No activity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Keep broken bone elevated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237440" y="5388120"/>
            <a:ext cx="1906560" cy="1447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ヒラギノ角ゴ Pro W3"/>
              </a:rPr>
              <a:t>Site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Trebuchet MS"/>
                <a:hlinkClick r:id="rId2"/>
              </a:rPr>
              <a:t>http://kidshealth.org/parent/general/aches/b_bone.html#a_How_Do_I_Know_if_It_s_Broken_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9440" y="5372280"/>
            <a:ext cx="13003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3:32:05Z</dcterms:created>
  <dc:creator>kms kms</dc:creator>
  <dc:description/>
  <dc:language>en-US</dc:language>
  <cp:lastModifiedBy>Kraybill Campus LMS</cp:lastModifiedBy>
  <dcterms:modified xsi:type="dcterms:W3CDTF">2011-05-23T12:50:57Z</dcterms:modified>
  <cp:revision>9</cp:revision>
  <dc:subject/>
  <dc:title>    Broken Bones</dc:title>
</cp:coreProperties>
</file>